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90F-3001-4B30-8743-BB3D7491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50B-0BF5-4056-B9BC-A171F7F8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95E-4D0F-44C6-9356-E7A7A438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3A1-30A5-4258-AB3E-388B5801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297-B122-4721-978C-91153C2C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DA1-D618-4E8E-AFA1-631E5378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907-D30B-4C50-8550-5D38C5AF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486-4B8E-4691-9793-85CA54FF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7CB-ACA6-4048-90C4-134194F1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2E6-0DF9-4A33-A49C-8C78596D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948-8669-4316-9147-D207CEE4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610-8096-4487-BAE8-072DAC72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4C45-CDEF-449E-B07F-57216CB0A9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55640" y="1557360"/>
            <a:ext cx="7848720" cy="4688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Utworzona w dniu 12.09.1917 roku jako władza zwierzchnia dla terenów Królestwa Polskiego z inicjatywy władz niemieckich i austriack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W październiku 1918 roku wydała Manifest do Narodu Polskiego zapowiadający odbudowanie niepodległego państ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W dniu 23.10.1918 roku powołała rząd Józefa Świeżyński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W wyniku słabości wewnętrznej oraz walk politycznych doszło do upadku gabinetu Świeżyńskiego oraz marginalizacji znaczenia Rady Regencyj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58:18Z</dcterms:created>
  <dc:creator>rena</dc:creator>
  <dc:description/>
  <dc:language>en-US</dc:language>
  <cp:lastModifiedBy>IB</cp:lastModifiedBy>
  <dcterms:modified xsi:type="dcterms:W3CDTF">2013-03-14T17:25:36Z</dcterms:modified>
  <cp:revision>6</cp:revision>
  <dc:subject/>
  <dc:title>Rada Regencyjna</dc:title>
</cp:coreProperties>
</file>